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737A-BD3C-4384-9C74-97BE24DA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D414-64C0-41F3-9EC8-EAC7C66F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6DF-30A8-48F1-80CA-627B4E56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FB6-5248-4929-A2FD-8447295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26D-FFDB-4BBF-BD30-04E58B21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0AA-E0EB-4929-B7C9-051B734D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BEA-ADAA-4D58-8836-D349CFA3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71C-C287-4791-ABB3-E70F289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74A-720C-49ED-AF41-074E1EE1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421-171B-405D-9207-7C88F92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643-F386-46C5-B66D-6E318CF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D5E-CF6A-4B1A-AD96-26BB223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A74-1DC9-4C53-8564-AF272BAB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092-F375-4605-994D-7144D9BF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67E2-554C-43C2-AD1E-E88FBEAE3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é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938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ál película quieres ir a v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bien y si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no tengo mascotas pero mi abuela tiene un gato. Mis abuelos son muy divertidos y ellos a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 los animales y yo me gustan los gatos.¿ Y tu tienes herman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9588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5791320"/>
            <a:ext cx="51055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no tengo hermanos soy hija única. Yo estoy triste por qué soy hija única. Pero soy feliz por qu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amiga y por qué amo a mis padres y por qué ellos me aman también. ¿ Tus papas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rabajando?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Si ustedes tienen mascotas cuántas mascotas tien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Photo on 2011-10-21 at 13.53 #2.jpg"/>
          <p:cNvPicPr/>
          <p:nvPr/>
        </p:nvPicPr>
        <p:blipFill>
          <a:blip r:embed="rId1"/>
          <a:stretch/>
        </p:blipFill>
        <p:spPr>
          <a:xfrm>
            <a:off x="438120" y="457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7"/>
          <p:cNvSpPr/>
          <p:nvPr/>
        </p:nvSpPr>
        <p:spPr>
          <a:xfrm>
            <a:off x="1371600" y="10666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371600" y="380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s bien porque Ya me voy Adió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1371600" y="24382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1371600" y="1752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1:36Z</dcterms:created>
  <dc:creator>FriscoISD</dc:creator>
  <dc:description/>
  <dc:language>en-US</dc:language>
  <cp:lastModifiedBy>User</cp:lastModifiedBy>
  <dcterms:modified xsi:type="dcterms:W3CDTF">2013-01-02T14:58:52Z</dcterms:modified>
  <cp:revision>111</cp:revision>
  <dc:subject/>
  <dc:title>Profile</dc:title>
</cp:coreProperties>
</file>